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FD2-D56C-4C5C-8E1D-D3C2A8BE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4B7-9BF9-4769-9D73-43BFA02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0D4-88D4-4A46-843D-D7D3E3D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C02-77EC-4AF9-BDF2-BC29CCEA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8C8-87CA-4D30-A653-60A03FBB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57F-45C9-4C31-BD97-BBD6CE0E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7F7-D641-4728-9B01-7CEA6B6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1C1-12F5-4012-88DF-5288226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611-BE13-41AD-BA06-F37C0F4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2E9-ED91-4538-8436-3ABF82F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F94-E239-488D-9920-08CC7A3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94F-D878-4DDF-98E6-C76053D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1A9-9B58-435B-9520-48D87555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hysicalGlobeFSM_sm"/>
          <p:cNvPicPr/>
          <p:nvPr/>
        </p:nvPicPr>
        <p:blipFill>
          <a:blip r:embed="rId1"/>
          <a:stretch/>
        </p:blipFill>
        <p:spPr>
          <a:xfrm>
            <a:off x="676440" y="6480"/>
            <a:ext cx="78483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437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History I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Midterm Review</a:t>
            </a:r>
            <a:br>
              <a:rPr sz="4400"/>
            </a:b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following was written by Denis Diderot in order to promote knowled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3200400"/>
            <a:ext cx="6781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d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ia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Treatises o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8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which country were the Enlightenment reforms of Emperor Joseph II opposed by the church and the nobility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480" y="34290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King Louis XVI call a meeting of the Estates General to be held in spring 1789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ss for reform in the legisl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gin the process of writing a new constitution fo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pproval for new taxes on the Third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pproval to rescind tax exemptions for the First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legislative bodies ended the monarchy and proclaimed France a republic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943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islative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rench people welcomed Napoleon becau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hoped he would help the collapsing French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ompletely disavowed the ideals of the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grandson of Louis XVI and Marie Antoin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mised order after the chaos of the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of the legacy of the French Revolution is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discouraged revolutions worldwide for 20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inspired people to fight for their rights in other parts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’ rights in Europe were never again restri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uropean monarchies became democra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gn of Terror resulte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oreign opposition to the French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engthened National Assem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hroughout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ion of Robespierre to the presid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ere Europeans outside of France horrified by the execution of Louis XV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ctually delighted by the execution of Louis X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hought he was an honorabl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ared that the same fate might befall their monarc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ared Great Britain’s wr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peasants came to oppose the Revolution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taunch Jacob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pposed the Revolution’s anticlerical moves and the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pacif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influenced by Enlightenment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not benefit from The Declaration of the Rights of Man and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3720" y="3428640"/>
            <a:ext cx="38862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s culot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ew way of thinking that emerged in the mid-1500s is calle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304812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gress of Vien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many national borders in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d monarchies in much of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the rights of citizens in monarch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poleonic C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the influence of the Roman Catholic Chu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d Napoleon’s plan to dominate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d order and authority over individual ri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bers of the military to be educ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was one factor that allowed Britain to industrialize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f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-owned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natural resources was most important for the early development of industry in Great Brit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3962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3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industrialization hurt skilled craft workers working in cottage indust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ding to a labor movement that raised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ding to a shortage of 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hifting populations from countryside to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undercutting prices for thei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was one effect of the factory 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eople joined the middl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became more s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ce of products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dealt directly with merch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5509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production which created an increase in the quantity of goods produced, l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sumer goods available to mor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wages and shorter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the cost of factory-made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the number of workers factorie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l Marx and Frederick Engels argued that capitalism would inevitably lea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ergy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 and a workers’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ensive welfar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lavement of most of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rcantile system in Britain was replaced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31240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ssez-faire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gion in northwestern England became known as “black country”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ers smudged coal dust on their faces to keep the sun out of thei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-smelting factories polluted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located there were all immensely prof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nd on the beaches was dark g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til the Scientific Revolution, the traditional authorities we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o and Aristo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Church and ancient scho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ors and expl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nas and his fol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uddite movement emerged in order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te for a 10 hou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 industrial changes that were putting weavers out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strikes that were breaking out all over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 chi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as a result of the growth of the textile industry in Great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cotton farms in Great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ge population growth in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sion of agriculture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read of slavery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ain’s colonial empire fueled the development of industry in that country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nation had access to vast amounts of raw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war machine required quick and efficient production of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olonies provided slave labor for growing indus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orkers in the colonies earned far less than workers in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countries was the first to industria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880" y="2590560"/>
            <a:ext cx="5105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Benjamin Disraeli, Emmeline Pankhurst, and the Chartists have in comm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ll worked to limit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ll sought to extend the voting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All donated large sums of money to orphan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ll opposed chi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effect of the Reform Act of 183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It gave industrial cities representation in Parliament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It gave women the right to vote for members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t regulated working conditions and minimum wages in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It created the United Kingdom by joining England, Ireland, Scotland, and W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eyfus affair had a lasting impact because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kept women from voting for another six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ed to the Revolution of 18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barred Jews from holding military commissions for almost a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inspired the Zionist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orm Act of 1832 was passed to address which of the following iss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idespread alcoholism in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unequal representation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women’s lack of suff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harmful conditions for child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no longer possesses unity of faith, of mission, or of aim . . . The question of nationality can only be resolved by destroying the treaties of 1815 and changing the map of Europe and its public law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iuseppe Mazzini,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Nation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” 185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passage by Giuseppe Mazzini. According to the passage, Mazzini advocated changing national boundaries that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34286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ly separated people of different ethni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put in place by Napole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put in place by Napoleon. kept people of different religions from ming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et by the Congress of Vie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assage by Giuseppe Mazzini illustrates the concept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228600"/>
            <a:ext cx="8458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no longer possesses unity of faith, of mission, or of aim . . . The question of nationality can only be resolved by destroying the treaties of 1815 and changing the map of Europe and its public law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iuseppe Mazzini,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Nation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”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posed theories that brought him into direct conflict with the Churc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2895480"/>
            <a:ext cx="5105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li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ol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267080"/>
            <a:ext cx="8915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y the map titled “The Unification of Italy, 1858–1870.” According to the map Garibald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53337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ed North to F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ed to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in Flo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ed his military campaign in Nap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4406400"/>
            <a:ext cx="87627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rding to the map titled “The Unification of Italy, 1858–1870,” which territories were given to France in exchange for help in unifying the northern Italian st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518148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oy and 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mbardy and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etia and R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dinia and Sic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map titled “The Unification of Italy, 1858–1870,” which area was the last to be annexed by Ital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ritory surrounding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di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states of Savoy, Lombardy and Vene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statements most accurately describes the economy of Italy in the years after unification? Please make your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fication of industrial, agricultural, and banking states led to a strong national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iful land and a well-developed transportation network resulted in a nation of small, prosperous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poverty and unemployment led to violence and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industry led to rapid urbanization and a modern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goal did Giuseppe Mazzini, Camillo di Cavour, and Giuseppe Garibaldi all have in commo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mocratic republic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fication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fication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of Italy to the glory of the R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useppe Garibaldi’s actions show that he was most committe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81080"/>
          <a:ext cx="7848360" cy="41148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a republican govern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achieving political pow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 the unification of Ita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the return of Italy to the glory of the Roman Empi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754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90960" y="762120"/>
            <a:ext cx="3352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states that joined the German Empi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0" y="48769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had been part of Denma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ere in the Sou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bordered the Russian Emp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early tripled the size of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486400" y="456840"/>
            <a:ext cx="36576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in which direction did the Prussian armies advance during the Austro-Prussian w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50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276720" y="4724280"/>
            <a:ext cx="281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w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nor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southea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northw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91320" y="533160"/>
            <a:ext cx="304776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before 1866 Prussi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95400" y="47520"/>
            <a:ext cx="5715000" cy="4692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914400" y="48769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was relatively small compared to other German stat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was landlock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was divided into two par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controlled Belgium and the Netherla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867280" y="838080"/>
            <a:ext cx="32767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in which direction did the German armies advance during the Franco-Prussian War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4818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429000" y="48006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n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ea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orth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“Man is born free but everywhere is in chains”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26665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esqui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liberals who revolted in 1848 all wa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constitutional monarc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eforms that would promote individu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Zollver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Otto von Bismarck mean by the phrase “blood and iron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ermany needed railroads to unite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ussia would fight to obtain i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would continue to fight until he was named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would use the Prussian military as a force for German un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aty of Nanj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benefited European countries at the expense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llowed the Chinese to try British citizens in Chines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returned Shanghai to the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trengthened the Q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iji Restoration refers to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eace process between China and Japan in the lat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iod of unrest in China that preceded the 1911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. Japanese emperor’s return to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building of Japan’s imperial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best describes political motives driving the new European imperialism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European leaders believed that controlling colonies would gain more respect from other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European leaders wanted to develop industry in Africa and reap their pro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pulation decline led European countries to look to Africa for workers to fuel industrialization in home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Europeans believed they had much to learn from Af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Britain begin exporting opium to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prevent opium from going to British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. to change the balance of trade in favor of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make colonization of China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improve the health of Chinese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eaty of Kanagawa contribut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. the shogun’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rise in na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prestige of the Tokuga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Japanese wealth through high tarif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British occupy Egypt in 18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rebuild the Suez Canal to accommodate larger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set up trading posts along the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maintain access to the Suez Canal when the Egyptian government appeared u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secure the Congo River to aid Leopold of Belg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6705360" cy="4487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4190760"/>
            <a:ext cx="8763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he map titled ”Imperialism in Africa.” Which country was the first to seize land i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581280" y="52261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4044960"/>
            <a:ext cx="85341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he map titled ”Imperialism in Africa.” By what year had almost all of Africa been colo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4078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5029200" y="50292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8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Hobbes and Rousseau di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in the idea of a social contract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an absolute monarchy was essential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people were naturally good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es believed people needed protection from government; Rousseau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6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was one factor that allowed European nations to extend their control over Asia and Africa after 18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military advantages such as superior wae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rise of great empires in Asia nd Nor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superiority of European trad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European democratic tra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3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ed the British government to take control of India from the British East India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33720" y="3200040"/>
            <a:ext cx="5790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Mughal Rev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spic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missionary impu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Sepoy Mu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terms that you NEED to know (from Chapter 12 – World War 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 Alli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urteen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nch warf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ral Pow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lshevi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o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eaty of Versail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 Ent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ied Pow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w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eague of N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gory Rasput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n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-Boa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alfour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nz Ferdin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xism-Leni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mmermann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vrilo Princ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on Trot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llipoli Campa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conomic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 colonists objected to the Stamp Act becau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sented forced conscription in the British military to fight the Seven Years’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restricted the colonists’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ry to British belief, Americans thought stamps wer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objected to taxes levied by the British Parliament without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cho Brahe believed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, planets, and moon all revolved around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lanets revolved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revolved around the earth but the other known planets revolved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only one planet in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proposed the geocentric theory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880" y="2971800"/>
            <a:ext cx="5105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Ke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37:38Z</dcterms:created>
  <dc:creator>Malden Public Schools</dc:creator>
  <dc:description/>
  <dc:language>en-US</dc:language>
  <cp:lastModifiedBy>Owner</cp:lastModifiedBy>
  <dcterms:modified xsi:type="dcterms:W3CDTF">2011-01-11T04:31:03Z</dcterms:modified>
  <cp:revision>41</cp:revision>
  <dc:subject/>
  <dc:title>Midterm: World History II Fauver</dc:title>
</cp:coreProperties>
</file>